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3C3-E71D-4FC5-9971-AA3326AA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63E-C43E-48DC-9462-2A3BF50F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C64-721F-4D7C-9CDF-713E1F0D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CDE-F889-42B9-8475-0686EC6F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1654-C02B-40E2-A917-7FD19F50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2A53-348D-4B13-A965-68D21544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4FAA-B212-4DA8-9117-BE6F6312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5AA8-810E-4126-9BD4-19E98F34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3EC-2C6E-4AAD-802A-97C5AC50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CD29-E745-4019-BB52-6398C35C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2106-8597-469F-BA37-683CB450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2FE-E20C-4C0A-B6C8-BC9F9C89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E704-24C6-4219-846F-941909A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DE0F-97CD-46DB-BA74-BF28DE72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6161-20BE-4D8A-96CF-4971D9B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BEBB-C603-4CA4-9BC2-DBD6BEFA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A77D-9CF0-45FC-AD9A-36069EC4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4D7-0A5D-4F9E-A866-A936C3F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4F8-A139-4DB6-8CB3-A374A119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A55-A029-4368-8B19-1DA150E3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03E-E55C-4217-A08B-964C4926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C32-97A5-4300-9E43-71BC91F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BE6-7237-4DDC-95EB-B09436D9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8E7-A280-4EAA-97C8-8B17B70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15CE-4B2F-472D-AD65-7C4D4835D9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E1D7-A468-40E2-AC74-B1979A68ED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lingue.com/es/Pa&#237;ses_Baixos" TargetMode="External"/><Relationship Id="rId2" Type="http://schemas.openxmlformats.org/officeDocument/2006/relationships/hyperlink" Target="http://pt.wikilingue.com/es/Johannes_Vermeer" TargetMode="External"/><Relationship Id="rId3" Type="http://schemas.openxmlformats.org/officeDocument/2006/relationships/hyperlink" Target="http://pt.wikilingue.com/es/Johannes_Vermeer" TargetMode="External"/><Relationship Id="rId4" Type="http://schemas.openxmlformats.org/officeDocument/2006/relationships/hyperlink" Target="http://pt.wikilingue.com/es/Pintura_ao_&#243;leo" TargetMode="External"/><Relationship Id="rId5" Type="http://schemas.openxmlformats.org/officeDocument/2006/relationships/hyperlink" Target="http://pt.wikilingue.com/es/Lienzo" TargetMode="External"/><Relationship Id="rId6" Type="http://schemas.openxmlformats.org/officeDocument/2006/relationships/hyperlink" Target="http://pt.wikilingue.com/es/1663" TargetMode="External"/><Relationship Id="rId7" Type="http://schemas.openxmlformats.org/officeDocument/2006/relationships/hyperlink" Target="http://pt.wikilingue.com/es/1664" TargetMode="External"/><Relationship Id="rId8" Type="http://schemas.openxmlformats.org/officeDocument/2006/relationships/hyperlink" Target="http://pt.wikilingue.com/es/Cent&#237;metro" TargetMode="External"/><Relationship Id="rId9" Type="http://schemas.openxmlformats.org/officeDocument/2006/relationships/hyperlink" Target="http://pt.wikilingue.com/es/Rijksmuseum" TargetMode="External"/><Relationship Id="rId10" Type="http://schemas.openxmlformats.org/officeDocument/2006/relationships/hyperlink" Target="http://pt.wikilingue.com/es/&#193;msterdam" TargetMode="External"/><Relationship Id="rId11" Type="http://schemas.openxmlformats.org/officeDocument/2006/relationships/hyperlink" Target="http://pt.wikilingue.com/es/Pa&#237;ses_Baixos" TargetMode="Externa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omic Sans MS"/>
              </a:rPr>
              <a:t>Mulher Lendo Carta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utor:Verm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Georgia"/>
              </a:rPr>
              <a:t>Mulher Lendo Car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1519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Vermeer+-+Mulher+lendo+uma+cart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1649520"/>
            <a:ext cx="8207280" cy="441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ografia Da Obr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Comic Sans MS"/>
              </a:rPr>
              <a:t>Mulher lendo uma carta (em Idioma neerlandés|neerlandés]], Brieflezende vrouw in het blauw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), é uma obra do pintor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1"/>
              </a:rPr>
              <a:t>holandês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2"/>
              </a:rPr>
              <a:t>Johannes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3"/>
              </a:rPr>
              <a:t> Vermeer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. Está realizada à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4"/>
              </a:rPr>
              <a:t>óleo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 sobre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5"/>
              </a:rPr>
              <a:t>lienzo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. Foi pintada em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6"/>
              </a:rPr>
              <a:t>1663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7"/>
              </a:rPr>
              <a:t>1664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. Mede 46,6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8"/>
              </a:rPr>
              <a:t>cm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 de alto e 39,1 cm de largo. Conserva-se no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9"/>
              </a:rPr>
              <a:t>Rijksmuseum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 de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10"/>
              </a:rPr>
              <a:t>Ámsterdam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pt-PT" sz="2800" spc="-1" strike="noStrike" u="sng">
                <a:solidFill>
                  <a:srgbClr val="ffcc66"/>
                </a:solidFill>
                <a:uFillTx/>
                <a:latin typeface="Comic Sans MS"/>
                <a:hlinkClick r:id="rId11"/>
              </a:rPr>
              <a:t>Países Baixos</a:t>
            </a:r>
            <a:r>
              <a:rPr b="0" lang="pt-PT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iografia Da Obr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 baseline="1000">
                <a:solidFill>
                  <a:srgbClr val="ffffff"/>
                </a:solidFill>
                <a:latin typeface="Comic Sans MS"/>
              </a:rPr>
              <a:t>Como ocorre com A jovem da pérola, a figura solitária de uma mulher permanece em pé, inmersa em seus pensamentos, desta vez no centro da composição. Lê uma carta e parece completamente absorta em isso.[1]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 baseline="1000">
                <a:solidFill>
                  <a:srgbClr val="ffffff"/>
                </a:solidFill>
                <a:latin typeface="Comic Sans MS"/>
              </a:rPr>
              <a:t>Esta pintura destaca pela simplicidadade </a:t>
            </a:r>
            <a:r>
              <a:rPr b="0" i="1" lang="pt-PT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pt-PT" sz="3600" spc="-1" strike="noStrike" baseline="1000">
                <a:solidFill>
                  <a:srgbClr val="ffffff"/>
                </a:solidFill>
                <a:latin typeface="Comic Sans MS"/>
              </a:rPr>
              <a:t>da composição, que elimina a anteriormente obrigatória janela de chumbo à esquerda. Inclusive as cadeiras e a mesa que rodeiam à principal e solitária figura têm perdido sua importância. Só o mapa sobre a parede rompe a uniformidad. A paleta de Vermeer fez-se muito delicada e sofisticada. Predomina o azul usada de maneira ampla na jaqueta da mulher.[2]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iografia Da Obra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Comic Sans MS"/>
              </a:rPr>
              <a:t>O primeiro plano de novo vontade em énfasis segundo os preceitos derivados do telescópio investido. Se não, o espectador se enfrenta somente com a majestade pura da figura principal, colocada contra a parede clara, cuja luminosidade está equibrada pelo mapa pardusco. Em seu simplicidad clássica, grandeza e conceito quase abstracto, esta é uma das obras mestres de Verme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Monotype Corsiva"/>
              </a:rPr>
              <a:t>FIM...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2:26:45Z</dcterms:created>
  <dc:creator>WINDOWS XP</dc:creator>
  <dc:description/>
  <dc:language>en-US</dc:language>
  <cp:lastModifiedBy>WINDOWS XP</cp:lastModifiedBy>
  <dcterms:modified xsi:type="dcterms:W3CDTF">2010-10-20T22:46:37Z</dcterms:modified>
  <cp:revision>2</cp:revision>
  <dc:subject/>
  <dc:title>Mulher Lendo Carta.</dc:title>
</cp:coreProperties>
</file>